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D55-CD26-4148-B3BF-DD1C21C8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BBC-1844-4D05-8B58-AA288A0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CF2-FA0A-42A7-9DA7-7A497CBE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E9B-AAEB-4AC2-9D02-F7693FE6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DC20-8773-475B-8307-8EBFC134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3EC8-CDB8-43FA-8B97-4EAE3B3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F0C-F3E6-4B00-95A1-16DDD539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0FF5-5CF1-487A-A8F6-0454126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2E2-2DF7-4352-9EC6-7768D0A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CC65-5D79-4F5A-B02D-03403B5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791-41AA-49CF-866C-B1D53B0B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1FC-CC83-4EB7-A19D-14AD0BDF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BED-9F80-4FCB-A45B-D8372CF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E64-A24B-47FA-ABB0-568C8BA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1CB6-3478-4A6C-9419-2B87A945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A1ED-4B7B-47FE-89C6-2E9FE193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557-DCA1-492C-9BF3-2A3CD6F8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6EE-4872-45D0-BC70-CE4D08B9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B12-5EAE-4ADC-970A-9CC5B5A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9AE-7364-4E1E-AA25-1313722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392-1544-4539-992F-34FE18D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32E-090A-4BAC-B069-86868C1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7BA-F8AA-4033-A485-0F82486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E5E-28E5-4EF3-B322-F1BBBE16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855-F101-44E2-BD04-CF958C6FD8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046-F5AE-438E-8E94-AB086F5CDD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98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98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98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98"/>
                            </p:stCondLst>
                            <p:childTnLst>
                              <p:par>
                                <p:cTn id="3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598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900"/>
                            </p:stCondLst>
                            <p:childTnLst>
                              <p:par>
                                <p:cTn id="3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900"/>
                            </p:stCondLst>
                            <p:childTnLst>
                              <p:par>
                                <p:cTn id="3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900"/>
                            </p:stCondLst>
                            <p:childTnLst>
                              <p:par>
                                <p:cTn id="3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900"/>
                            </p:stCondLst>
                            <p:childTnLst>
                              <p:par>
                                <p:cTn id="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900"/>
                            </p:stCondLst>
                            <p:childTnLst>
                              <p:par>
                                <p:cTn id="39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9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08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1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4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4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9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4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9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400"/>
                            </p:stCondLst>
                            <p:childTnLst>
                              <p:par>
                                <p:cTn id="1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9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900"/>
                            </p:stCondLst>
                            <p:childTnLst>
                              <p:par>
                                <p:cTn id="1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850"/>
                            </p:stCondLst>
                            <p:childTnLst>
                              <p:par>
                                <p:cTn id="233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850"/>
                            </p:stCondLst>
                            <p:childTnLst>
                              <p:par>
                                <p:cTn id="24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350"/>
                            </p:stCondLst>
                            <p:childTnLst>
                              <p:par>
                                <p:cTn id="24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